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1004-DCD4-4264-98EE-BFB28764E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DE9C-9729-4B06-BA25-49D90F8B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6B64-822B-44FA-AFA2-7A77E224E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A9A8-3B23-45FD-B817-03EA0F2F8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A5F2-E600-43AE-9A9A-7DDF46AB3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FCF4-1DE9-4849-A7AB-6F7679DB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E39D-C54D-4269-8296-343D5500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479B-1307-4FC9-8230-EE1FE989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B6C8-2092-4CCF-9ADC-A9B720DE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12E6-D282-4741-9A13-4F7B7B48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A6BD-AFE6-4D93-A7EC-CDB04871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BBE5-7864-4287-90E7-615B7A4F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CBE0-2B50-428F-AE86-BA50B61B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471A-D026-41E1-99F2-82088707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8D5E-9F0D-413F-BC0E-25487D95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9267-E5AD-47A5-B67E-B534E96F8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E86A-39C9-4224-A421-487C747A0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03F2-1E4F-4675-BF42-237198D8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EDA8-6C01-4E2E-A20B-C41B704A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B174-D358-420C-954D-0D80E5F1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300C-E368-4CFA-88BE-C827A62B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DCF2-E706-4F8C-BA85-833C54E4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8998-89AC-4295-9D91-2E36FB6E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6E45-AE49-491D-B881-B292974B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DEEF-6A73-457B-9D07-4A5FF11D2CA3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D859-FC27-470E-AD71-EC355555A95B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52280" y="769680"/>
            <a:ext cx="36576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How many parts does the Palace of Westminster consist of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 rot="10800000">
            <a:off x="7086240" y="624816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4724280"/>
            <a:ext cx="586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 – the Royal Apartments, the House of Lords and the House of Comm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038480" y="152280"/>
            <a:ext cx="2971800" cy="1981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029200" y="2362320"/>
            <a:ext cx="3429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1-27T16:31:5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